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F4ED-082C-47FD-A641-1C4660412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7769-7FC6-4FE5-B0DC-1083D525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34E1-8108-4004-BB7E-3DB869795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4885-C842-4AC3-AD65-C59584FD4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0C06-DEB1-4680-909B-03DE04B3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4462-1570-473B-91F4-6099E944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B243-300F-4520-9DCE-A9A1300B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7599-E623-4303-BEB8-DC6F2E25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12F2-FC37-49D1-929F-FBED710E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BF9C-6FF4-4BB8-B66B-33CDAA3A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7AF0-3450-4CF6-869B-51E52835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3AEE-D817-41B0-9F62-B50FB5DF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23D7-2F89-4B4C-B5D6-A7B39F258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0"/>
            <a:ext cx="7236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700" spc="-1" strike="noStrike">
                <a:solidFill>
                  <a:srgbClr val="ffffff"/>
                </a:solidFill>
                <a:latin typeface="Arial"/>
                <a:cs typeface="????Boutros Rokaa"/>
              </a:rPr>
              <a:t>يا رعاةً خبرونا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8000" y="-27000"/>
            <a:ext cx="7236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ما رأى مولى الانامِ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خالِقُ الكونِ السَّّنيّ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غيرَ تبنٍ للمنامِ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فاعتبر ذا يا غنيّ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8000" y="279036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أل‍مجدُ للهِ في العُلى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لسلامُ في الأرضِ لأبناءِ رِضاه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8000" y="-27000"/>
            <a:ext cx="7236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ا تَخَفْ بَلْ كُنْ شجيعاً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الْتَمِسْ منهُ السَّماحْ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اخْتَرِ العذرا شفيعاً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تُضْحِ من أهلِ الصَّلاحْ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8000" y="279036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أل‍مجدُ للهِ في العُلى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لسلامُ في الأرضِ لأبناءِ رِضاه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08000" y="0"/>
            <a:ext cx="7236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يا رعاةً خبّرونا</a:t>
            </a:r>
            <a:br>
              <a:rPr sz="9600"/>
            </a:b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هل جرى أمرٌ غريب</a:t>
            </a:r>
            <a:br>
              <a:rPr sz="9600"/>
            </a:b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خبّرونا بشّرونا</a:t>
            </a:r>
            <a:br>
              <a:rPr sz="9600"/>
            </a:b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كيف ذا السرُّ العجيب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08000" y="279036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أل‍مجدُ للهِ في العُلى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لسلامُ في الأرضِ لأبناءِ رِضاه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8000" y="0"/>
            <a:ext cx="7236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مَن أتاكِ ب‍يتَ لحمَ</a:t>
            </a:r>
            <a:br>
              <a:rPr sz="9600"/>
            </a:b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مَن غدا فيكِ مقيم</a:t>
            </a:r>
            <a:br>
              <a:rPr sz="9600"/>
            </a:b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إذ خَلَعْتِ كُلَّ هَمٍ</a:t>
            </a:r>
            <a:br>
              <a:rPr sz="9600"/>
            </a:b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مَن هو ال‍مولى العظي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8000" y="279036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أل‍مجدُ للهِ في العُلى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لسلامُ في الأرضِ لأبناءِ رِضاه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8000" y="0"/>
            <a:ext cx="7236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أَعلِ‍موا كلَّ العبادِ بشّروا في العال‍مين</a:t>
            </a:r>
            <a:br>
              <a:rPr sz="9600"/>
            </a:b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قد أتانا اليومَ فادي فاهتِفوا يا مؤمن‍ي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8000" y="279036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أل‍مجدُ للهِ في العُلى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لسلامُ في الأرضِ لأبناءِ رِضاه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8000" y="100080"/>
            <a:ext cx="7236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مِذوَداً بيتاً حقيراً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للمُقامِ انتَخبا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رامَ أن يُضحي فقيراً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مُهمَلاً مُنتَحِب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8000" y="279036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أل‍مجدُ للهِ في العُلى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لسلامُ في الأرضِ لأبناءِ رِضاه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5T14:45:15Z</dcterms:created>
  <dc:creator>Charbel Azar</dc:creator>
  <dc:description/>
  <dc:language>en-US</dc:language>
  <cp:lastModifiedBy>Charbel Azar</cp:lastModifiedBy>
  <dcterms:modified xsi:type="dcterms:W3CDTF">2002-12-16T11:29:05Z</dcterms:modified>
  <cp:revision>6</cp:revision>
  <dc:subject/>
  <dc:title>يا رعاة خبّرونا هل جرى أمرٌ غريب خبّرونا بشّرونا ما ذا السرُّ العجيب ال‍مجـد لله في العلى          Gloria In Exelcis Deo</dc:title>
</cp:coreProperties>
</file>